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type.wav" ContentType="audio/x-wav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42A-2087-44CB-8147-4F332DD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DF7-DBAC-4A77-A3D2-21E8FB1D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289-BDE3-471D-A25D-3550BBED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0A9-C4F2-430B-8EBF-46923A3E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5C4A-9E7D-482E-8068-F931D39E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BD6-73C9-4791-83C4-6345E583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7FE5-34F6-4807-B473-A689982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7448-90AA-49BB-8A75-BD4CFCC9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C6C8-0E63-4329-A563-0EE04AF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4ABE-4A56-44A8-BF78-4630CD0F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964-3BA5-4B75-AA7D-6C3C4F6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65A-4D4E-4C6E-8C69-A678ED39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36C0-F60C-4921-B443-0A45631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0C10-B660-4199-890D-43510A7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D393-7876-4E99-9982-6FA60B0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7D60-3107-4B2A-94D1-F17069FB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584-77B1-4090-A299-D215BA4A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6B4-81F6-4B57-8890-6A30655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6B1-95EE-483F-912A-222BF1C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BE-150B-417D-8843-EB7EE20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47D-5CB1-44DE-9E73-05ADEF2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BF6-B7C5-4B04-A156-FF6F76C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ACA-17AB-4411-88E3-45F7D49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47D-3B50-4C45-9719-C45C7308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FA79-9682-4F95-8B76-48381D35CD9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96B-3E94-4A40-A391-B3FA5F79C50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comgeo.net/archives/1544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photos.baidu.com/ttmm1/pic/item/295c8ddd514e19285982ddc3.jpe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163440"/>
            <a:ext cx="9361440" cy="702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765000"/>
            <a:ext cx="93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  恩  父  母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发  奋  成  才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634920" y="5300280"/>
            <a:ext cx="5069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高三 一班主题班会    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75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这是医学上罕见的奇迹。医学会议上，有人说要称它为大西洋奇迹，有人建议要以死者的名字命名。一位坐在首席的老先生一字一句地说：“这个奇迹的名字叫父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97560" y="125280"/>
            <a:ext cx="347256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苹果树的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很久很久以前，有一棵很大的树……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她好爱好爱一个小男孩，男孩也每天都会跑来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她身边玩耍。小男孩收集她的叶子，把叶子编成皇冠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戴在头上扮起森林的国王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会沿着树干一直爬到树顶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还会抓着树枝荡秋千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还会爬到树上摘苹果来吃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们会一起玩捉迷藏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玩累了，男孩就靠在树上在她树荫的庇护下睡觉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好爱好爱这棵树，树也好高兴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日子一天一天过去，男孩也在慢慢长大……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42120" y="0"/>
            <a:ext cx="5459760" cy="72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有一天，男孩来到树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说：“来啊，孩子，爬上我的树干，抓着我的树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荡秋千，吃吃苹果，在我的树荫下玩耍，快快乐乐的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却说：“我已经不是小孩子了，我不要再爬树和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玩耍了。”“我想买一些玩具来玩，我需要钱，你可以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一些钱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”树说，“我没有钱，只有树叶和苹果。孩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拿我所有的果子到城里去卖吧，这样，你就会有钱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很高兴，于是爬到树上，摘下了所有的苹果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并把苹果通通带走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看到自己能帮助男孩，心里好高兴啊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摘走苹果以后很久很久都没有再来过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　　树好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华文行楷"/>
              </a:rPr>
              <a:t>伤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01520"/>
            <a:ext cx="5435280" cy="67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有一天，当男孩长成一个真正的大人的时候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回来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高兴得发抖，她说：“来啊！孩子，爬上我的树干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抓着我的树枝荡秋千，快快乐乐的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忙了，没时间爬树。”男孩说，“我必须为我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庭工作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说：“我想要妻子和小孩，所以，我需要一间房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你可以给我一间房子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，孩子”，树说，“我没有房子，森林就是我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房子。”“不过，你可以砍下我的树枝去盖房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样你就会快乐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于是，男孩砍下了她所有的树枝，心满意足地去盖房子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96760" y="939960"/>
            <a:ext cx="528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因为见到男孩，觉得好快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但是，在那之后，男孩就再也没回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觉得好孤独，心里很难过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3000" y="330120"/>
            <a:ext cx="55936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一个炎热的夏日，男孩回来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太快乐了，快乐得几乎说不出话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来啊！孩子”，她轻轻地对男孩说，“过来，来玩呀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已经老了，玩不动了”男孩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想坐船离开这里，让自己的身心放松一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你可以给我一艘船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砍下我的树干去造条船吧！”树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样你就可以远航了……你就会快乐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于是，男孩砍下了她的树干，做了一条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坐着船去了很远的地方，很久都没有再露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好快乐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但不是真的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60920" y="887400"/>
            <a:ext cx="522216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很多年之后，男孩已经变成了白发苍苍的老人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又回到这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，我的孩子”，树说，“我已经没有什么东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再可以给你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苹果没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牙齿也咬不动苹果了。”男孩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树枝没了，你不能在上面荡秋千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老了，不能在上面荡秋千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树干没了”，树说，“你也不能爬上来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老了，也爬不动了”，男孩说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9560" y="527040"/>
            <a:ext cx="481968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说：“我真希望我能给你些什么，可是我什么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没有了。只剩下一个老树根。我很抱歉……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现在不需要那么多”，男孩回答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只要一个可以让我安静坐着休息的地方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些年来我好累好累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太好了！”树一边说，一边努力挺直身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正好啊，老树根是最适合坐下来休息的。来啊！孩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坐下，快坐下来休息一下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坐了下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好快乐。她高兴得留下了流下了泪水……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40040" y="981000"/>
            <a:ext cx="383832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有一棵大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春天倚着她幻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夏天倚着她繁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秋天倚着她成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冬天倚着她沉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这棵大树就是我们得爸爸妈妈啊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66840" y="476280"/>
            <a:ext cx="505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给了我们生命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养育我们长大成人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给了我们世界上最伟大而崇高的亲情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让我们真正懂得了什么是骨肉至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托起了我们的生命之舟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滋润了我们稚嫩的心田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抚慰了我们的心灵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温暖着我们整整一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33336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隶书"/>
              </a:rPr>
              <a:t>震撼心灵的母爱故事</a:t>
            </a: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隶书"/>
              </a:rPr>
              <a:t>!</a:t>
            </a:r>
            <a:r>
              <a:rPr b="1" lang="zh-CN" sz="6600" spc="-1" strike="noStrike">
                <a:solidFill>
                  <a:srgbClr val="ff0000"/>
                </a:solidFill>
                <a:latin typeface="华文琥珀"/>
                <a:ea typeface="隶书"/>
              </a:rPr>
              <a:t>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80cba"/>
                </a:solidFill>
                <a:latin typeface="华文琥珀"/>
                <a:ea typeface="新宋体"/>
              </a:rPr>
              <a:t>  </a:t>
            </a:r>
            <a:r>
              <a:rPr b="1" lang="zh-CN" sz="6600" spc="-1" strike="noStrike">
                <a:solidFill>
                  <a:srgbClr val="880cba"/>
                </a:solidFill>
                <a:latin typeface="华文琥珀"/>
                <a:ea typeface="新宋体"/>
              </a:rPr>
              <a:t>汶川地震中的母亲</a:t>
            </a:r>
            <a:r>
              <a:rPr b="1" lang="zh-CN" sz="6600" spc="-1" strike="noStrike">
                <a:solidFill>
                  <a:srgbClr val="ff0000"/>
                </a:solidFill>
                <a:latin typeface="华文琥珀"/>
                <a:ea typeface="隶书"/>
              </a:rPr>
              <a:t>     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121280"/>
            <a:ext cx="360072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76720" y="4121280"/>
            <a:ext cx="374508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92000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2632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一种观望叫冷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16320" y="5877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有一种自食其力叫辛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551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经济的发展，不代表社会的进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富足而没有爱心的世界，是绚丽的地狱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632720" cy="626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5013360"/>
            <a:ext cx="75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琥珀"/>
              </a:rPr>
              <a:t>感恩应该远离冷漠，拒绝自私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3505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63528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80000" y="3505320"/>
            <a:ext cx="356400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88400" y="520560"/>
            <a:ext cx="28616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隶书"/>
              </a:rPr>
              <a:t>深深父母恩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59280" y="2637000"/>
            <a:ext cx="43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6156360"/>
            <a:ext cx="5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6033960"/>
            <a:ext cx="4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9596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父母？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651640" y="3141720"/>
            <a:ext cx="2209680" cy="235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611280" y="0"/>
            <a:ext cx="4548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孝的故事</a:t>
            </a:r>
            <a:endParaRPr b="1" lang="en-US" sz="48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77336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黄香，东汉人，他很小就知道孝敬父亲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黄香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岁时母亲去世了。他十分悲伤，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把对母亲的思念和爱全部倾注到父亲身上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冬夜，天气寒冷。黄香就先钻到父亲的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窝里，躺一会儿才回到自己的床上睡觉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夏天夜里很热，黄香就手执蒲扇，对着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亲枕席使劲扇着。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父母？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3141720"/>
            <a:ext cx="2209680" cy="2354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11280" y="0"/>
            <a:ext cx="4548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孝的故事</a:t>
            </a:r>
            <a:endParaRPr b="1" lang="en-US" sz="48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818440"/>
            <a:ext cx="668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月底，在深圳一家律师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务所工作的田世国得知母亲刘玉环患尿毒症后，偷偷跑到上海中山医院作了血样检查；配型成功后，他瞒着母亲，毅然将自己的一个肾脏移植给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8000" y="29397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46"/>
                </a:solidFill>
                <a:latin typeface="楷体_GB2312"/>
                <a:ea typeface="楷体_GB2312"/>
              </a:rPr>
              <a:t>《挨杖伤老》：汉朝时，大梁有个叫韩伯愈的人，他的母亲对他管教很严格，稍微有点过失，就举杖挥打。无论母亲打多重，他都没有怨言不掉眼泪。可是，有一天伯愈在挨打时，竟然哭得很伤心。母亲觉得奇怪，问道：“往常打你时，你都能接受，今天为什么哭泣？”伯愈回答道：“往常打我时我觉得疼痛，知道母亲还有力气，身体健康，但是今天感觉不到疼痛，知道母亲身体不如以前，体力微弱。所以伤心禁不住流下了泪水。并不是疼痛不能忍受。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7704000" cy="453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87280" y="537372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46040" y="260280"/>
            <a:ext cx="68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们真的有这么多的牢骚要发吗，我们的生活、学习真的如此令人不满吗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们真的应该没完没了的抱怨吗？请看下面的一组照片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595008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是他们每天必经的道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9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你还觉得学习太累了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9280" y="0"/>
            <a:ext cx="8174160" cy="4897440"/>
            <a:chOff x="179280" y="0"/>
            <a:chExt cx="8174160" cy="48974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814560" y="476280"/>
              <a:ext cx="45388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79280" y="0"/>
              <a:ext cx="5113440" cy="489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4392720" y="364500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2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0cb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当救护人员发现她的时候，她已经以这样的姿势定格了：双膝跪地，双手坚定地撑着。她的上身向前匍匐着，模样就像行跪拜礼，她的身体被压得变形了，让人不忍卒睹。但是在废墟中，拱起了一座母爱的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不知道她从哪里得到的力量，在大厦即将倾倒的瞬间，在水泥板和砖块狂暴地砸向她的那一时刻，她没有趴下，而是用这种独特的姿势支撑着，直到永恒。她背负着的是千万斤的废墟啊，但她没有倒下。因为母爱的力量在支撑着她！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也许她还活着？救援人员冲她喊叫，用撬棍敲击着水泥框梁。她没有听见，也没有任何的反应。队长从砖石的缝隙中伸进手，触摸到的却是冰凉的躯体。于是人们暂时放下了她，走向下一个废墟，去救一息尚存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993000" y="2924280"/>
            <a:ext cx="458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1989000"/>
            <a:ext cx="459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42080" y="2349360"/>
            <a:ext cx="45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9354960" cy="4589640"/>
            <a:chOff x="0" y="0"/>
            <a:chExt cx="9354960" cy="458964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5651640" y="0"/>
              <a:ext cx="3703320" cy="446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508720" cy="458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2268360" y="4797360"/>
            <a:ext cx="65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300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还有理由抱怨生活对你不公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365360"/>
            <a:ext cx="471636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让你感到很苦恼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5280" y="0"/>
            <a:ext cx="8424720" cy="4086360"/>
            <a:chOff x="395280" y="0"/>
            <a:chExt cx="8424720" cy="40863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930560" y="260280"/>
              <a:ext cx="388944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95280" y="0"/>
              <a:ext cx="4643280" cy="408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932360" y="3068640"/>
            <a:ext cx="4211640" cy="35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752160" y="2276640"/>
            <a:ext cx="11552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有他们辛苦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还在抱怨自己的衣着不够时髦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还在抱怨你的家庭不够富裕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冷漠 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学会感激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;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32828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玩世不恭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相信还有真情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44197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抱怨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学会感恩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了解父母各个方面（如：爸爸妈妈的工作是什么？辛苦吗？爸爸妈妈最喜欢吃的食物是什么、你了解爸爸妈妈的身体健康状况吗？你爸爸妈妈的生日是哪一天）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尊敬父母，对父母有礼貌，听从父母的正确教导，不当面顶撞父母，不和父母发脾气 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生活节俭，无浪费现象，不乱花钱，不向父母提过高要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为父母做力所能及的家务，减轻父母负担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有心事主动和父母说，经常与父母聊天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碰到一些比较重大的事情，要和父母商量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征求和认真考虑父母的意见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外出时，在征得父母同意后，应把去向和时间告知父母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努力学好各门功课，经常主动向父母汇报自己在学校的学习生活情况，不让父母操心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父母亲有做得不对的地方要诚恳的指出。</a:t>
            </a:r>
            <a:br>
              <a:rPr sz="2400"/>
            </a:b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83664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经常和父母交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708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耐心听取父母的意见和建议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44560" y="4611600"/>
            <a:ext cx="58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努力学习，发奋成才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76500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80cb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或许是得到神灵的启示，救援队长忽然想到什么，他迅速地往回跑，竭尽全力地把手伸进那女人身子弯成的苍穹中，他探到了一个软乎乎、暖融融的小生命！那是一个孩子！救护队员们把断壁残砖搬开，从她屈曲的身体下面，抱出一个三四个月大的婴儿。在母亲的呵护下，她还酣然熟睡着，因为有母亲的庇护，山崩地裂，并不意味着什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队长紧紧地把婴儿护在怀里，泪眼莹莹，满脸慈蔼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橄榄绿和红色的襁褓互相辉映，成为人间最美丽的风景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孩子毫发未损，她一直安详地睡着，红扑扑的小脸让所有的人为之动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随行的医生准备给她做体检时，襁褓中却滑出一部手机，上面是一条已经写好的短信：</a:t>
            </a:r>
            <a:r>
              <a:rPr b="1" lang="zh-CN" sz="2800" spc="-1" strike="noStrike">
                <a:solidFill>
                  <a:srgbClr val="880cba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亲爱的宝贝，如果你能活着，一定要记住，妈妈爱你！</a:t>
            </a: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这是世界上最感人的短信，同时也是一条特殊的遗嘱，一个伟大的祝福！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亲爱的宝贝，妈妈爱你！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手机从这一双手传到另一双手，就这么一直传下去，泪水滴在手机屏上，模糊了那两行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都说是父爱如山，母爱似水。但谁敢说，这位母亲的脊梁不是一座大山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泪水淹没全世界的眼睛，也让全天下的孩子们如醍醐灌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“</a:t>
            </a:r>
            <a:r>
              <a:rPr b="1" i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母爱无边！”“恩重如山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7201080" cy="554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989000"/>
            <a:ext cx="8858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亲爱的宝贝，如果你能活着，一定要记住—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         </a:t>
            </a:r>
            <a:r>
              <a:rPr b="1" i="1" lang="zh-CN" sz="6600" spc="-1" strike="noStrike">
                <a:solidFill>
                  <a:srgbClr val="ff9933"/>
                </a:solidFill>
                <a:latin typeface="Times New Roman"/>
              </a:rPr>
              <a:t>妈妈爱你</a:t>
            </a:r>
            <a:r>
              <a:rPr b="1" i="1" lang="zh-CN" sz="6000" spc="-1" strike="noStrike">
                <a:solidFill>
                  <a:srgbClr val="c30315"/>
                </a:solidFill>
                <a:latin typeface="Times New Roman"/>
              </a:rPr>
              <a:t> </a:t>
            </a: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advTm="3000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7480" cy="617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2637000"/>
            <a:ext cx="7777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奇迹的名字叫父亲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奇迹的名字叫父亲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当我认识父亲却没有了解他的时候，一位外籍教授给我讲了一个故事，一个关于父亲的故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很久很久以前，在一艘横渡大洋的船上，一位父亲带着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岁的儿子去美国和妻子会合。一天，当父亲在舱里用水果刀削苹果给儿子吃时，船却突然剧烈摇晃，刀子在父亲摔倒时插进了他的胸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父亲慢慢站起来，在儿子不注意时用拇指揩去刀锋上的血。以后的三天，父亲照常照顾儿子，带他吹海风，看蔚蓝的大海。仿佛一切如常，但儿子未曾注意到父亲每一分钟都比前一分钟衰弱，他看向海平线的目光是如此忧伤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抵达的前夜，父亲来到儿子身旁，对儿子说：“明天见到妈妈的时候，告诉她，我爱她。”说完，在儿子的额上深深地留下一个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船到美国了，儿子在人潮中认出了妈妈，大喊：“妈妈！妈妈！”就在此时，父亲已经仰面倒下，胸口血流如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医生检查的结果让所有人惊呆了：那把刀子精确地插进了父亲的心脏，但他却多活了三天，而且不被任何人发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2:26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38:47Z</dcterms:modified>
  <cp:revision>30</cp:revision>
  <dc:subject>主题班会课件(分28大类): http://shop62905894.taobao.com</dc:subject>
  <dc:title>主题班会课件(分28大类): http://shop62905894.taobao.com</dc:title>
</cp:coreProperties>
</file>